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9D9-874D-45FD-A82B-670D63FD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2B4-A61D-44BC-B1E5-309AFBCA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EB9-B537-4E7D-A7A9-610AD1B5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CED-D650-4E8E-8B34-75F26EB6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ED3-BC90-41FB-9D7E-D398F3E8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680-716E-4852-A680-B586F5F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397-5643-4D3E-81A7-2504149C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748-D0C8-43B9-B710-5D5B2AD0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61A-2D71-46F2-A7E4-CDA28D93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FE3-BC3B-49FD-9ABD-5B3A93DA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A52-91CF-4BC2-8B6C-7EFEE0A4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872-E741-418A-BEDA-9D51D15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6632-3D79-4A16-8B59-643CFCD96E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98520" y="1557360"/>
            <a:ext cx="86025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4800" spc="-1" strike="noStrike">
                <a:solidFill>
                  <a:srgbClr val="191966"/>
                </a:solidFill>
                <a:latin typeface="Arial Black"/>
              </a:rPr>
              <a:t>Relatório de Balanço do Programa de Revisão dos Benefícios por Incapacidade - PRB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28/09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4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5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 de benefícios por incapacidade mantidos há mais de 2 anos (DIB anterior a 06/01/2015) sem perícia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.706.10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Situação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Gráfico 1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 de benefícios por incapacidade mantidos há mais de 2 anos (DIB anterior a 06/01/2015) sem perícia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.535.07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Situação após conversão em 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ráfico 6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am enviad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457.66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cartas de convocação aos beneficiários, s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Cartas Envi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áfico 6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ram realiza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28.296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perícias, das qu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2.807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foram em 2016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05.48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m 201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Perícias Re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áfico 6" descr=""/>
          <p:cNvPicPr/>
          <p:nvPr/>
        </p:nvPicPr>
        <p:blipFill>
          <a:blip r:embed="rId3"/>
          <a:stretch/>
        </p:blipFill>
        <p:spPr>
          <a:xfrm>
            <a:off x="452520" y="2924280"/>
            <a:ext cx="8238960" cy="343692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"/>
          <p:cNvSpPr/>
          <p:nvPr/>
        </p:nvSpPr>
        <p:spPr>
          <a:xfrm>
            <a:off x="6373800" y="3305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4"/>
          <p:cNvSpPr/>
          <p:nvPr/>
        </p:nvSpPr>
        <p:spPr>
          <a:xfrm>
            <a:off x="4067280" y="3726000"/>
            <a:ext cx="64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10"/>
          <p:cNvSpPr/>
          <p:nvPr/>
        </p:nvSpPr>
        <p:spPr>
          <a:xfrm>
            <a:off x="3687840" y="4208400"/>
            <a:ext cx="64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11"/>
          <p:cNvSpPr/>
          <p:nvPr/>
        </p:nvSpPr>
        <p:spPr>
          <a:xfrm>
            <a:off x="3419640" y="463068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12"/>
          <p:cNvSpPr/>
          <p:nvPr/>
        </p:nvSpPr>
        <p:spPr>
          <a:xfrm>
            <a:off x="3403440" y="514656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13"/>
          <p:cNvSpPr/>
          <p:nvPr/>
        </p:nvSpPr>
        <p:spPr>
          <a:xfrm>
            <a:off x="3440160" y="564840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5"/>
          <p:cNvSpPr/>
          <p:nvPr/>
        </p:nvSpPr>
        <p:spPr>
          <a:xfrm>
            <a:off x="2627280" y="6021360"/>
            <a:ext cx="4321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15"/>
          <p:cNvSpPr/>
          <p:nvPr/>
        </p:nvSpPr>
        <p:spPr>
          <a:xfrm>
            <a:off x="6775560" y="3073320"/>
            <a:ext cx="20034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am cessad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02.83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benefícios, dos qu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82.52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foram por conclusão pericial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0.30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ão compareceram à perícia méd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Benefícios cess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Gráfico 7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conomia anual estimada Bras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2.993.509.055,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000" spc="-1" strike="noStrike">
                <a:solidFill>
                  <a:srgbClr val="191966"/>
                </a:solidFill>
                <a:latin typeface="Arial"/>
                <a:ea typeface="Arial"/>
              </a:rPr>
              <a:t>Detalh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Economia Esti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03200" y="3645000"/>
          <a:ext cx="8345520" cy="2736720"/>
        </p:xfrm>
        <a:graphic>
          <a:graphicData uri="http://schemas.openxmlformats.org/drawingml/2006/table">
            <a:tbl>
              <a:tblPr/>
              <a:tblGrid>
                <a:gridCol w="3513240"/>
                <a:gridCol w="1404720"/>
                <a:gridCol w="1711440"/>
                <a:gridCol w="1716120"/>
              </a:tblGrid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TOTAL (Até 28/09/2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º de Benefí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/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/ 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por não comparec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28.851.984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75.075.79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na realização da perí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.8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234.185.063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.044.405.81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Futura (média 90 di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25.188.646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27.452.39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uxílio-Acid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1.417.447,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.426.817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pos. por Invalid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R$     57.075.047,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741.975.618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pos. por Invalidez + 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R$       2.298.165,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9.876.151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bilitação Profiss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ESTIMADA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230.269.927,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993.509.055,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PERÍCIAS REALIZA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.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95280" y="1117440"/>
            <a:ext cx="85726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  <a:ea typeface="Arial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EQUIPE PRB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DIR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NSS</cp:lastModifiedBy>
  <dcterms:modified xsi:type="dcterms:W3CDTF">2017-09-28T13:25:46Z</dcterms:modified>
  <cp:revision>12</cp:revision>
  <dc:subject/>
  <dc:title>Slide 1</dc:title>
</cp:coreProperties>
</file>